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C76C-739F-453B-B0ED-BD30E512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CE4F-94FF-4C28-9A2D-C515E406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8D95-2FF5-4439-A0A0-B565D72D9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64E7-67E8-4E94-8F76-B5C9A141D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96FD-1CEA-4B82-A775-74DFFAB4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E302-4FB3-4772-A7C3-EE4E1931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6D94-152C-4BF4-8DEF-A222F620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9A03-177F-4040-8CA9-19BCF474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1104-B688-4A42-A1D3-A89BC89B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628A-5380-47B4-9831-AB531EE0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EDFD-0DE7-49B2-88EA-D830C009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83E0-27FB-435E-A8D4-32F6461D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60B18-EFA0-4886-93B1-91079E04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8A6D-D4FD-46A4-976E-ACABC449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0F5BD-5E26-4239-8615-5F62C264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3665-29FE-420F-B2FC-B2E5B4FC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48F0-FE95-4C08-B110-2F813D849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A43C-F522-4721-911F-A1E16C27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BC2E-4B6E-4DD9-BDB1-8A0EB0CE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E4ED-CBFF-4E43-8D74-DE6CE2E6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30A0-8B66-4D28-8917-A8A5BB14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EE5A-DE7C-4077-9FFC-DE0523D4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C20D-0D6D-4B49-B7A2-7075D4F2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6C7F-7AE4-4B57-A09E-BFF00A9E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3880-ECB1-4517-B693-0BD75965467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A6BB-099A-465D-A8C1-63030AF32BF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lephant"/>
              </a:rPr>
              <a:t>Creating Monologu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radley Hand ITC"/>
              </a:rPr>
              <a:t>Using Historical Figures and Informa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lephant"/>
              </a:rPr>
              <a:t>Unit Summa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radley Hand ITC"/>
              </a:rPr>
              <a:t>Students will conduct research on a historical figure.  They will then create a monologue based on their research, remaining true to the character and their findings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lephant"/>
              </a:rPr>
              <a:t>Curriculum-Framing Ques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Bradley Hand ITC"/>
              </a:rPr>
              <a:t>Essential Question:</a:t>
            </a:r>
            <a:r>
              <a:rPr b="0" lang="en-US" sz="2400" spc="-1" strike="noStrike">
                <a:solidFill>
                  <a:srgbClr val="ffcc00"/>
                </a:solidFill>
                <a:latin typeface="Bradley Hand ITC"/>
              </a:rPr>
              <a:t> How can individuals make a difference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Bradley Hand ITC"/>
              </a:rPr>
              <a:t>Unit Question:</a:t>
            </a:r>
            <a:r>
              <a:rPr b="0" lang="en-US" sz="2400" spc="-1" strike="noStrike">
                <a:solidFill>
                  <a:srgbClr val="ffcc00"/>
                </a:solidFill>
                <a:latin typeface="Bradley Hand ITC"/>
              </a:rPr>
              <a:t>  Who was/is your assigned person of interest and why are they important in history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Bradley Hand ITC"/>
              </a:rPr>
              <a:t>Content Questions:</a:t>
            </a:r>
            <a:r>
              <a:rPr b="0" lang="en-US" sz="2400" spc="-1" strike="noStrike">
                <a:solidFill>
                  <a:srgbClr val="ffcc00"/>
                </a:solidFill>
                <a:latin typeface="Bradley Hand ITC"/>
              </a:rPr>
              <a:t>  How did (assigned person of interest) make a difference economically in American History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radley Hand ITC"/>
              </a:rPr>
              <a:t>How did (assigned person of interest) make a difference socially in American History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radley Hand ITC"/>
              </a:rPr>
              <a:t>How did (assigned person of interest) make a difference politically in American History?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3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lephant"/>
              </a:rPr>
              <a:t>Vision for This Uni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radley Hand ITC"/>
              </a:rPr>
              <a:t>With This Unit, I want students to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radley Hand ITC"/>
              </a:rPr>
              <a:t>~ Create an original monologue based on historical informatio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radley Hand ITC"/>
              </a:rPr>
              <a:t>~ Reinforce research technique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cover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lephant"/>
              </a:rPr>
              <a:t>21</a:t>
            </a:r>
            <a:r>
              <a:rPr b="0" lang="en-US" sz="4400" spc="-1" strike="noStrike" baseline="30000">
                <a:solidFill>
                  <a:srgbClr val="ffffff"/>
                </a:solidFill>
                <a:latin typeface="Elephant"/>
              </a:rPr>
              <a:t>st</a:t>
            </a:r>
            <a:r>
              <a:rPr b="0" lang="en-US" sz="4400" spc="-1" strike="noStrike">
                <a:solidFill>
                  <a:srgbClr val="ffffff"/>
                </a:solidFill>
                <a:latin typeface="Elephant"/>
              </a:rPr>
              <a:t> Century Learn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480" y="26665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Bradley Hand ITC"/>
              </a:rPr>
              <a:t>Students will be able to develop learning and innovation skills by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radley Hand ITC"/>
              </a:rPr>
              <a:t>-Demonstrating originality and inventiveness in their work by creating individual monologue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radley Hand ITC"/>
              </a:rPr>
              <a:t>-Understanding interconnections between multiple learning discipline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radley Hand ITC"/>
              </a:rPr>
              <a:t>-Articulating thoughts and ideas clearly and effectively through speaking and writing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d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98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lephant"/>
              </a:rPr>
              <a:t>21</a:t>
            </a:r>
            <a:r>
              <a:rPr b="0" lang="en-US" sz="4400" spc="-1" strike="noStrike" baseline="30000">
                <a:solidFill>
                  <a:srgbClr val="ffffff"/>
                </a:solidFill>
                <a:latin typeface="Elephant"/>
              </a:rPr>
              <a:t>st</a:t>
            </a:r>
            <a:r>
              <a:rPr b="0" lang="en-US" sz="4400" spc="-1" strike="noStrike">
                <a:solidFill>
                  <a:srgbClr val="ffffff"/>
                </a:solidFill>
                <a:latin typeface="Elephant"/>
              </a:rPr>
              <a:t> Century Learn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Bradley Hand ITC"/>
              </a:rPr>
              <a:t>Students will be able to develop information, media, and technology skills by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radley Hand ITC"/>
              </a:rPr>
              <a:t>-Accessing information efficiently and effectively, evaluating information critically and competently and using information accurately and creatively within the assigned parameters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radley Hand ITC"/>
              </a:rPr>
              <a:t>-Using technology as a tool to research, organize, evaluate and communicate information, and the possession of a fundamental understanding of the ethical/legal issues surrounding the access and use of information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Elephant"/>
              </a:rPr>
              <a:t>21</a:t>
            </a:r>
            <a:r>
              <a:rPr b="0" lang="en-US" sz="4400" spc="-1" strike="noStrike" baseline="30000">
                <a:solidFill>
                  <a:srgbClr val="ffffff"/>
                </a:solidFill>
                <a:latin typeface="Elephant"/>
              </a:rPr>
              <a:t>st</a:t>
            </a:r>
            <a:r>
              <a:rPr b="0" lang="en-US" sz="4400" spc="-1" strike="noStrike">
                <a:solidFill>
                  <a:srgbClr val="ffffff"/>
                </a:solidFill>
                <a:latin typeface="Elephant"/>
              </a:rPr>
              <a:t> Century Learning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Bradley Hand ITC"/>
              </a:rPr>
              <a:t>Students will be able to develop life and career skills by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radley Hand ITC"/>
              </a:rPr>
              <a:t>-Monitoring one’s own understanding and learning needs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radley Hand ITC"/>
              </a:rPr>
              <a:t>-Going beyond basic mastery of skills and/or curriculum to explore and expand one’s own learning and opportunities to gain expertise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radley Hand ITC"/>
              </a:rPr>
              <a:t>-Defining, prioritizing and completing tasks without direct oversight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radley Hand ITC"/>
              </a:rPr>
              <a:t>-Utilizing time efficiently and managing workload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Bradley Hand ITC"/>
              </a:rPr>
              <a:t>-Demonstrating commitment to learning as a lifelong process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18:05:48Z</dcterms:created>
  <dc:creator>Eldred Central School</dc:creator>
  <dc:description/>
  <dc:language>en-US</dc:language>
  <cp:lastModifiedBy>Eldred Central School</cp:lastModifiedBy>
  <dcterms:modified xsi:type="dcterms:W3CDTF">2010-06-30T18:27:51Z</dcterms:modified>
  <cp:revision>3</cp:revision>
  <dc:subject/>
  <dc:title>Creating Monologues</dc:title>
</cp:coreProperties>
</file>